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9627-1C09-47DD-B5FC-0B585FAF4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6777-AF3F-45A4-BD3A-ABE550B9C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6D61-2950-4E21-92DC-C0B7A550C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76E5-A6B2-4786-8149-2BFD9DCDC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4E7A8-E853-4F71-BE23-3FBD7145A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6C71B-3EBC-4E83-BC34-6E4AED959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5C3D6-3C9B-4BC0-BAFE-053C6BEC4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35FFB-A4CF-4F47-A959-8A9B4F365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A45C3-5402-490F-9A73-1F12EA517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45ADB-1261-4D9B-BBD9-CA2A65CB9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BC536-5D9D-4A94-8B16-096DC515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8048-39F5-4BF2-9271-5FFEFA921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24210-1B29-4ADA-90F4-B4382458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A51BB-91F7-466D-95AA-EFD27D38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B82EA-0850-4E55-8E3C-E64DA554B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65AF3-81DB-49F5-9B24-1F73DB8D7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C45CA-91C1-441E-AD5B-F82EAC0F0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8CF4-7D1F-4200-BEE4-32C2AA1A9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BADA-FC3A-4FE1-A25D-995606313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2CB2-AF9B-49E1-889B-BFC8108C1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A25B-1E24-4704-82A1-829D4132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874A-DA95-4F06-AED6-4E3311CF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8D4F-A3BA-4FFF-BC45-768E38F8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9B3B-A5A6-46F7-87C4-0FC1308B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58DE7-1EE2-4282-8AB0-7DEF79AD505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581D9-75EB-4019-A687-3D22518C8A4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ahoma"/>
              </a:rPr>
              <a:t>Jephthah vs.</a:t>
            </a:r>
            <a:br>
              <a:rPr sz="6000"/>
            </a:br>
            <a:r>
              <a:rPr b="1" lang="en-US" sz="6000" spc="-1" strike="noStrike">
                <a:solidFill>
                  <a:srgbClr val="ffffcc"/>
                </a:solidFill>
                <a:latin typeface="Tahoma"/>
              </a:rPr>
              <a:t>The Ammonites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66320" y="38862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Judges 10:6 - 11:3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ages 82 - 8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n the Days of the Judges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3581280"/>
            <a:ext cx="7162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80880" y="17524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go and possess the land your god, Chemosh, gave y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 whomsoever the Lord our God shall drive out from before us, them will we possess.”   v2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rael has possessed this land for 300 years, why are you now trying to get the land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d will judge this day between Israel and Amm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monites did not accept his reasoning  v2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Jephthah vs. The Ammonites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1:12-28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6840" y="17524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’s spirit came upon Jephthah  v2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phthah’s vow  v30-3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phthah defeats the Ammonites v32-3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much given about the battle but it was a great slaughter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Jephthah – The Vow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1:29-33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Israel Worships False Gods Again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0:6-9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rved Baalim, Ashtaroth, gods of Syria, gods of Zidon, gods of Moab, gods of Ammon, gods of Philistines  v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erve the one true God  v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ing angry, God gave them over to the Philistines and the Ammonites  v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ppressed 18 years  v7-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r focus now is on the Ammoni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Israel “Cried Unto The Lord”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0:10-18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ally, the gods (idols) were put away, they confessed their sins, and asked for deliverance  v10-1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 hears their cry  v1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monites gathered against Israel at Gilead  v1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ders in Israel asked: Who will fight against the Ammonites?  v1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Jephthah – The Man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1:1-3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mighty man of valor (brave, courageou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Gileadite, son of Gilead and a harlo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riven from home by the legitimate s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nt to land of Tob (East of Sea of Galile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der of freebooters (pirat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came a bold and successful captain for the people of Gilead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bout Gilead..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rocky, mountainous reg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st of Jord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uth of Bash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st of the Arabian platea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rth of Moab and Amm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vation: between 2,000 – 3,000 fe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ed for its balm (a fragrant and healing ointment) collected from “balm of Gilead” trees and was worth twice its weight in silv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9588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 rot="17908800">
            <a:off x="3563640" y="3066120"/>
            <a:ext cx="15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 i l e a 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77120" y="449568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mmon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5486400" y="4419720"/>
            <a:ext cx="8380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477120" y="2209680"/>
            <a:ext cx="144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nd of Gil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4800600" y="2743200"/>
            <a:ext cx="144792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477120" y="609480"/>
            <a:ext cx="137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nd of T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4419360" y="1143000"/>
            <a:ext cx="1981080" cy="1219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Jephthah – The Deliverer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1:4-11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phthah brought back to Gilead  v4-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elders of Gilead made a deal with Jephthah  v6-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t, it was conditional  v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eople made him head and captain over them  v10-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Jephthah vs. The Ammonites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1:12-28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2057400"/>
            <a:ext cx="8382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1752480"/>
            <a:ext cx="88390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phthah’s negotiations with the Ammonites  v12-1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s message to the king of Amm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y do you want to fight against the Israelit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ing’s repl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rael took the land from us when they came out of Egypt!  Restore the land peaceab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80520" y="175248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phthah made another appeal  v14-2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rael never took any land from Amm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dom, Moab and Amorites refused passage to Israel, but the Amorites (Sihon their king) started a figh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d had delivered the land of the Amorites into the hand of Israe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phthah cites historical precedents against them invading under these condi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Jephthah vs. The Ammonites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1:12-28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4T13:44:51Z</dcterms:created>
  <dc:creator>Frank D Vines</dc:creator>
  <dc:description/>
  <dc:language>en-US</dc:language>
  <cp:lastModifiedBy>Frank D Vines</cp:lastModifiedBy>
  <dcterms:modified xsi:type="dcterms:W3CDTF">2005-02-15T16:36:05Z</dcterms:modified>
  <cp:revision>20</cp:revision>
  <dc:subject/>
  <dc:title>Slide 1</dc:title>
</cp:coreProperties>
</file>